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19B-E08C-41F7-944E-F909BB36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87A-C6ED-44A9-950C-55C2F483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6B7-32DA-4240-B7DE-1BCF41A9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E8B-BA30-4C2C-9B3C-5022C9F3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4C4-F10B-4899-BBEE-6FF8C166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D89-72F1-4776-9A07-92F9476A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B48-1C02-4F32-949B-B72DFCEE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B86-8CD3-49DE-937D-60D5B5DE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9C7-B4B7-4053-BB3F-D5E05917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A97-1A66-4785-898B-4067B205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F8E-616C-429D-AFD4-76389BDC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404-03B8-4E60-A887-224C3A5D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F391-AF42-4F64-80C9-A8B45B8456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824400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" name="Line 9"/>
          <p:cNvSpPr/>
          <p:nvPr/>
        </p:nvSpPr>
        <p:spPr>
          <a:xfrm>
            <a:off x="1258920" y="595008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3" name="Line 10"/>
          <p:cNvSpPr/>
          <p:nvPr/>
        </p:nvSpPr>
        <p:spPr>
          <a:xfrm>
            <a:off x="125892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4" name="Line 11"/>
          <p:cNvSpPr/>
          <p:nvPr/>
        </p:nvSpPr>
        <p:spPr>
          <a:xfrm>
            <a:off x="1332000" y="1125360"/>
            <a:ext cx="3311280" cy="2016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5" name="Line 12"/>
          <p:cNvSpPr/>
          <p:nvPr/>
        </p:nvSpPr>
        <p:spPr>
          <a:xfrm flipV="1">
            <a:off x="4643280" y="1197000"/>
            <a:ext cx="352908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Line 7"/>
          <p:cNvSpPr/>
          <p:nvPr/>
        </p:nvSpPr>
        <p:spPr>
          <a:xfrm>
            <a:off x="1258920" y="112536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1547640" y="4076640"/>
            <a:ext cx="64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"/>
              </a:rPr>
              <a:t>Вам пришло письмо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" name="AutoShape 16"/>
          <p:cNvSpPr/>
          <p:nvPr/>
        </p:nvSpPr>
        <p:spPr>
          <a:xfrm>
            <a:off x="3780000" y="2421000"/>
            <a:ext cx="2016000" cy="143964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49" name="Group 17"/>
          <p:cNvGrpSpPr/>
          <p:nvPr/>
        </p:nvGrpSpPr>
        <p:grpSpPr>
          <a:xfrm>
            <a:off x="4103640" y="2498400"/>
            <a:ext cx="1369800" cy="1356120"/>
            <a:chOff x="4103640" y="2498400"/>
            <a:chExt cx="1369800" cy="1356120"/>
          </a:xfrm>
        </p:grpSpPr>
        <p:sp>
          <p:nvSpPr>
            <p:cNvPr id="50" name="AutoShape 18"/>
            <p:cNvSpPr/>
            <p:nvPr/>
          </p:nvSpPr>
          <p:spPr>
            <a:xfrm>
              <a:off x="4284720" y="270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1" name="AutoShape 19"/>
            <p:cNvSpPr/>
            <p:nvPr/>
          </p:nvSpPr>
          <p:spPr>
            <a:xfrm rot="2241600">
              <a:off x="4284360" y="2707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9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468360" y="260280"/>
            <a:ext cx="8281800" cy="619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09640" y="33336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"/>
              </a:rPr>
              <a:t>Выполни гимнастику для глаз по схеме: 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4" name="Line 7"/>
          <p:cNvSpPr/>
          <p:nvPr/>
        </p:nvSpPr>
        <p:spPr>
          <a:xfrm>
            <a:off x="1332000" y="1484280"/>
            <a:ext cx="6912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1547280" y="1484280"/>
            <a:ext cx="6696360" cy="1800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6" name="Line 9"/>
          <p:cNvSpPr/>
          <p:nvPr/>
        </p:nvSpPr>
        <p:spPr>
          <a:xfrm>
            <a:off x="1547640" y="3284640"/>
            <a:ext cx="6696360" cy="792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7" name="Line 10"/>
          <p:cNvSpPr/>
          <p:nvPr/>
        </p:nvSpPr>
        <p:spPr>
          <a:xfrm flipH="1">
            <a:off x="1187280" y="4076640"/>
            <a:ext cx="7058160" cy="12956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1258920" y="1268280"/>
            <a:ext cx="43344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9" name="Line 15"/>
          <p:cNvSpPr/>
          <p:nvPr/>
        </p:nvSpPr>
        <p:spPr>
          <a:xfrm flipH="1">
            <a:off x="7885080" y="1557360"/>
            <a:ext cx="433440" cy="144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1476360" y="3362400"/>
            <a:ext cx="431640" cy="7128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1" name="Line 22"/>
          <p:cNvSpPr/>
          <p:nvPr/>
        </p:nvSpPr>
        <p:spPr>
          <a:xfrm flipH="1">
            <a:off x="7761240" y="4159080"/>
            <a:ext cx="504720" cy="1429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50867E-006 L 0.7559 0.00024 E">
                                      <p:cBhvr>
                                        <p:cTn id="56" dur="4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56647E-006 L -0.64584 0.24115 E">
                                      <p:cBhvr>
                                        <p:cTn id="62" dur="4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7 L 0.70868 0.10972 E">
                                      <p:cBhvr>
                                        <p:cTn id="68" dur="4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40741E-007 L -0.75434 0.1875 E">
                                      <p:cBhvr>
                                        <p:cTn id="74" dur="4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2"/>
          <p:cNvSpPr/>
          <p:nvPr/>
        </p:nvSpPr>
        <p:spPr>
          <a:xfrm>
            <a:off x="1476360" y="345960"/>
            <a:ext cx="6120000" cy="6120000"/>
          </a:xfrm>
          <a:prstGeom prst="ellipse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3" name="Oval 3"/>
          <p:cNvSpPr/>
          <p:nvPr/>
        </p:nvSpPr>
        <p:spPr>
          <a:xfrm>
            <a:off x="7667640" y="2421000"/>
            <a:ext cx="431640" cy="4316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806 -0.33611 C -0.18403 -0.33611 -0.03264 -0.1368 -0.03264 0.10972 C -0.03264 0.35556 -0.18403 0.55556 -0.36806 0.55556 C -0.55243 0.55556 -0.70191 0.35556 -0.70191 0.10972 C -0.70191 -0.1368 -0.55243 -0.33611 -0.36806 -0.33611 Z">
                                      <p:cBhvr>
                                        <p:cTn id="83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805 -0.33611 C -0.18524 -0.33611 -0.03489 -0.13727 -0.03489 0.10903 C -0.03489 0.35463 -0.18524 0.55625 -0.36805 0.55625 C -0.55121 0.55625 -0.69965 0.35463 -0.69965 0.10903 C -0.69965 -0.13727 -0.55121 -0.33611 -0.36805 -0.33611 Z">
                                      <p:cBhvr>
                                        <p:cTn id="86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805 -0.33611 C -0.1875 -0.33611 -0.03871 -0.13634 -0.03871 0.10972 C -0.03871 0.35602 -0.1875 0.55625 -0.36805 0.55625 C -0.55052 0.55625 -0.69739 0.35602 -0.69739 0.10972 C -0.69739 -0.13634 -0.55052 -0.33611 -0.36805 -0.33611 Z">
                                      <p:cBhvr>
                                        <p:cTn id="89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805 -0.33611 C -0.18628 -0.33611 -0.03767 -0.13634 -0.03767 0.10996 C -0.03767 0.35602 -0.18628 0.55625 -0.36805 0.55625 C -0.55 0.55625 -0.69722 0.35602 -0.69722 0.10996 C -0.69722 -0.13634 -0.55 -0.33611 -0.36805 -0.33611 Z">
                                      <p:cBhvr>
                                        <p:cTn id="92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" nodeType="after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805 -0.33611 C -0.18576 -0.33611 -0.03732 -0.13657 -0.03732 0.10972 C -0.03732 0.35602 -0.18576 0.55625 -0.36805 0.55625 C -0.55 0.55625 -0.69757 0.35602 -0.69757 0.10972 C -0.69757 -0.13657 -0.55 -0.33611 -0.36805 -0.33611 Z">
                                      <p:cBhvr>
                                        <p:cTn id="95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805 -0.33611 C -0.1835 -0.33611 -0.03333 -0.13634 -0.03333 0.10995 C -0.03333 0.35602 -0.1835 0.55648 -0.36805 0.55648 C -0.5526 0.55648 -0.7026 0.35602 -0.7026 0.10995 C -0.7026 -0.13634 -0.5526 -0.33611 -0.36805 -0.33611 Z">
                                      <p:cBhvr>
                                        <p:cTn id="98" dur="4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3"/>
          <p:cNvSpPr/>
          <p:nvPr/>
        </p:nvSpPr>
        <p:spPr>
          <a:xfrm>
            <a:off x="395280" y="3068640"/>
            <a:ext cx="431640" cy="431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632 4.81481E-006 L -2.77778E-007 4.81481E-006 E">
                                      <p:cBhvr>
                                        <p:cTn id="104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5642 4.81481E-006 L -2.77778E-007 4.81481E-006 E">
                                      <p:cBhvr>
                                        <p:cTn id="108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81481E-006 L 0.85833 4.81481E-006 E">
                                      <p:cBhvr>
                                        <p:cTn id="112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5833 4.81481E-006 L -2.77778E-007 4.81481E-006 E">
                                      <p:cBhvr>
                                        <p:cTn id="115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81481E-006 L 0.85052 4.81481E-006 E">
                                      <p:cBhvr>
                                        <p:cTn id="118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5833 4.81481E-006 L -2.77778E-007 4.81481E-006 E">
                                      <p:cBhvr>
                                        <p:cTn id="12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3"/>
          <p:cNvSpPr/>
          <p:nvPr/>
        </p:nvSpPr>
        <p:spPr>
          <a:xfrm>
            <a:off x="4211640" y="333360"/>
            <a:ext cx="431640" cy="4316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-1.38889E-006 0.83982 E">
                                      <p:cBhvr>
                                        <p:cTn id="127" dur="27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29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83982 L -1.38889E-006 -2.59259E-006 E">
                                      <p:cBhvr>
                                        <p:cTn id="13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32" nodeType="after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-1.38889E-006 0.83982 E">
                                      <p:cBhvr>
                                        <p:cTn id="133" dur="27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5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83982 L -1.38889E-006 -2.59259E-006 E">
                                      <p:cBhvr>
                                        <p:cTn id="136" dur="27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38" nodeType="after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-1.38889E-006 0.8294 E">
                                      <p:cBhvr>
                                        <p:cTn id="139" dur="27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1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83982 L -1.38889E-006 -0.01065 E">
                                      <p:cBhvr>
                                        <p:cTn id="142" dur="27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6"/>
          <p:cNvSpPr/>
          <p:nvPr/>
        </p:nvSpPr>
        <p:spPr>
          <a:xfrm rot="16200000">
            <a:off x="468360" y="3428640"/>
            <a:ext cx="576360" cy="576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C 0.00052 -0.11644 0.09358 -0.21181 0.20677 -0.21181 C 0.3401 -0.21181 0.38854 -0.10579 0.40851 -0.04236 L 0.42917 0.04236 C 0.45035 0.10578 0.50156 0.21111 0.65295 0.21111 C 0.74896 0.21111 0.85816 0.1162 0.85833 2.96296E-006 C 0.85833 -0.11644 0.74896 -0.21181 0.65295 -0.21181 C 0.50156 -0.21181 0.45035 -0.10579 0.42917 -0.04236 L 0.40851 0.04236 C 0.38854 0.10486 0.34028 0.21111 0.20764 0.21111 C 0.09358 0.21111 1.11111E-006 0.1162 1.11111E-006 2.96296E-006 Z">
                                      <p:cBhvr>
                                        <p:cTn id="148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pat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C 1.11111E-006 0.11922 0.09288 0.21783 0.20608 0.21783 C 0.33976 0.21783 0.38802 0.1088 0.40816 0.0426 L 0.42917 -0.04421 C 0.45 -0.10949 0.50121 -0.21689 0.65208 -0.21689 C 0.74861 -0.21689 0.85833 -0.1206 0.85833 -4.44444E-006 C 0.85833 0.11922 0.74861 0.21783 0.65208 0.21783 C 0.50121 0.21783 0.45 0.1088 0.42917 0.0426 L 0.40816 -0.04421 C 0.38802 -0.10949 0.33976 -0.21689 0.20608 -0.21689 C 0.09288 -0.21689 1.11111E-006 -0.1206 1.11111E-006 -4.44444E-006 Z">
                                      <p:cBhvr>
                                        <p:cTn id="151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pat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C 1.11111E-006 0.12222 0.09288 0.22129 0.20608 0.22129 C 0.33976 0.22129 0.38802 0.11111 0.40816 0.04398 L 0.42917 -0.04398 C 0.45 -0.11065 0.50121 -0.22014 0.65208 -0.22014 C 0.74861 -0.22014 0.85833 -0.12176 0.85833 2.96296E-006 C 0.85833 0.12222 0.74861 0.22129 0.65208 0.22129 C 0.50121 0.22129 0.45 0.11111 0.42917 0.04398 L 0.40816 -0.04398 C 0.38802 -0.11065 0.33976 -0.22014 0.20608 -0.22014 C 0.09288 -0.22014 1.11111E-006 -0.12176 1.11111E-006 2.96296E-006 Z">
                                      <p:cBhvr>
                                        <p:cTn id="154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8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68" name="AutoShape 28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69" name="AutoShape 32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0" name="Group 42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71" name="AutoShape 43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2" name="AutoShape 44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3" name="Group 48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74" name="AutoShape 49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5" name="AutoShape 50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6" name="Group 51"/>
          <p:cNvGrpSpPr/>
          <p:nvPr/>
        </p:nvGrpSpPr>
        <p:grpSpPr>
          <a:xfrm>
            <a:off x="1869840" y="2282400"/>
            <a:ext cx="1369800" cy="1356120"/>
            <a:chOff x="1869840" y="2282400"/>
            <a:chExt cx="1369800" cy="1356120"/>
          </a:xfrm>
        </p:grpSpPr>
        <p:sp>
          <p:nvSpPr>
            <p:cNvPr id="77" name="AutoShape 52"/>
            <p:cNvSpPr/>
            <p:nvPr/>
          </p:nvSpPr>
          <p:spPr>
            <a:xfrm>
              <a:off x="2050920" y="249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8" name="AutoShape 53"/>
            <p:cNvSpPr/>
            <p:nvPr/>
          </p:nvSpPr>
          <p:spPr>
            <a:xfrm rot="2241600">
              <a:off x="2050560" y="2491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9" name="Group 57"/>
          <p:cNvGrpSpPr/>
          <p:nvPr/>
        </p:nvGrpSpPr>
        <p:grpSpPr>
          <a:xfrm>
            <a:off x="419040" y="4750920"/>
            <a:ext cx="1369800" cy="1356120"/>
            <a:chOff x="419040" y="4750920"/>
            <a:chExt cx="1369800" cy="1356120"/>
          </a:xfrm>
        </p:grpSpPr>
        <p:sp>
          <p:nvSpPr>
            <p:cNvPr id="80" name="AutoShape 58"/>
            <p:cNvSpPr/>
            <p:nvPr/>
          </p:nvSpPr>
          <p:spPr>
            <a:xfrm>
              <a:off x="600120" y="49608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1" name="AutoShape 59"/>
            <p:cNvSpPr/>
            <p:nvPr/>
          </p:nvSpPr>
          <p:spPr>
            <a:xfrm rot="2241600">
              <a:off x="599760" y="49604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2" name="Group 60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83" name="AutoShape 61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4" name="AutoShape 62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5" name="Group 63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86" name="AutoShape 64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7" name="AutoShape 65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8" name="Group 66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89" name="AutoShape 67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0" name="AutoShape 68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1" name="Group 72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92" name="AutoShape 73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3" name="AutoShape 74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4" name="Group 75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95" name="AutoShape 76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6" name="AutoShape 77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66 C 0.16893 -0.28866 0.30087 -0.1169 0.30087 0.09421 C 0.30087 0.30532 0.16893 0.47777 0.00764 0.47777 C -0.15364 0.47777 -0.2842 0.30532 -0.2842 0.09421 C -0.2842 -0.1169 -0.15364 -0.28866 0.00764 -0.28866 Z">
                                      <p:cBhvr>
                                        <p:cTn id="319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66 C 0.16927 -0.28866 0.30139 -0.11667 0.30139 0.09444 C 0.30139 0.30601 0.16927 0.47777 0.00764 0.47777 C -0.15382 0.47777 -0.28455 0.30601 -0.28455 0.09444 C -0.28455 -0.11667 -0.15382 -0.28866 0.00764 -0.28866 Z">
                                      <p:cBhvr>
                                        <p:cTn id="32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142920" y="2571480"/>
            <a:ext cx="1369800" cy="1356120"/>
            <a:chOff x="142920" y="2571480"/>
            <a:chExt cx="1369800" cy="1356120"/>
          </a:xfrm>
        </p:grpSpPr>
        <p:sp>
          <p:nvSpPr>
            <p:cNvPr id="98" name="AutoShape 3"/>
            <p:cNvSpPr/>
            <p:nvPr/>
          </p:nvSpPr>
          <p:spPr>
            <a:xfrm>
              <a:off x="324000" y="278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9" name="AutoShape 4"/>
            <p:cNvSpPr/>
            <p:nvPr/>
          </p:nvSpPr>
          <p:spPr>
            <a:xfrm rot="2241600">
              <a:off x="323640" y="278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4.79769E-006 C -0.03142 -0.14104 0.06493 -0.25711 0.18212 -0.25711 C 0.32066 -0.25711 0.37049 -0.12855 0.39149 -0.05109 L 0.41354 0.05133 C 0.4349 0.12856 0.48768 0.25665 0.64445 0.25665 C 0.74427 0.25665 0.85781 0.14128 0.85781 -4.79769E-006 C 0.85781 -0.14104 0.74427 -0.25711 0.64445 -0.25711 C 0.48768 -0.25711 0.4349 -0.12855 0.41354 -0.05109 L 0.39149 0.05133 C 0.37049 0.12856 0.32066 0.25665 0.18212 0.25665 C 0.06493 0.25665 -0.03142 0.14128 -0.03142 -4.79769E-006 Z">
                                      <p:cBhvr>
                                        <p:cTn id="331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7"/>
          <p:cNvGrpSpPr/>
          <p:nvPr/>
        </p:nvGrpSpPr>
        <p:grpSpPr>
          <a:xfrm>
            <a:off x="7343640" y="1850760"/>
            <a:ext cx="1369800" cy="1356120"/>
            <a:chOff x="7343640" y="1850760"/>
            <a:chExt cx="1369800" cy="1356120"/>
          </a:xfrm>
        </p:grpSpPr>
        <p:sp>
          <p:nvSpPr>
            <p:cNvPr id="101" name="AutoShape 8"/>
            <p:cNvSpPr/>
            <p:nvPr/>
          </p:nvSpPr>
          <p:spPr>
            <a:xfrm>
              <a:off x="7524720" y="206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 rot="2241600">
              <a:off x="7524360" y="20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103" name="Group 7"/>
          <p:cNvGrpSpPr/>
          <p:nvPr/>
        </p:nvGrpSpPr>
        <p:grpSpPr>
          <a:xfrm>
            <a:off x="428400" y="2018880"/>
            <a:ext cx="1369800" cy="1356120"/>
            <a:chOff x="428400" y="2018880"/>
            <a:chExt cx="1369800" cy="1356120"/>
          </a:xfrm>
        </p:grpSpPr>
        <p:sp>
          <p:nvSpPr>
            <p:cNvPr id="104" name="AutoShape 8"/>
            <p:cNvSpPr/>
            <p:nvPr/>
          </p:nvSpPr>
          <p:spPr>
            <a:xfrm>
              <a:off x="609480" y="22287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 rot="2241600">
              <a:off x="609120" y="22284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590560" y="123480"/>
            <a:ext cx="1369800" cy="1356120"/>
            <a:chOff x="2590560" y="123480"/>
            <a:chExt cx="1369800" cy="1356120"/>
          </a:xfrm>
        </p:grpSpPr>
        <p:sp>
          <p:nvSpPr>
            <p:cNvPr id="107" name="AutoShape 8"/>
            <p:cNvSpPr/>
            <p:nvPr/>
          </p:nvSpPr>
          <p:spPr>
            <a:xfrm>
              <a:off x="2771640" y="33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 rot="2241600">
              <a:off x="2771280" y="33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sp>
        <p:nvSpPr>
          <p:cNvPr id="109" name="TextBox 1"/>
          <p:cNvSpPr/>
          <p:nvPr/>
        </p:nvSpPr>
        <p:spPr>
          <a:xfrm>
            <a:off x="1265400" y="4508640"/>
            <a:ext cx="665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entury"/>
              </a:rPr>
              <a:t>БЕРЕГИТЕ ЗРЕНИЕ!</a:t>
            </a:r>
            <a:endParaRPr b="0" lang="en-US" sz="5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8:33:42Z</dcterms:created>
  <dc:creator>Масько</dc:creator>
  <dc:description/>
  <dc:language>en-US</dc:language>
  <cp:lastModifiedBy>Admin</cp:lastModifiedBy>
  <dcterms:modified xsi:type="dcterms:W3CDTF">2021-11-23T18:34:54Z</dcterms:modified>
  <cp:revision>30</cp:revision>
  <dc:subject/>
  <dc:title>Слайд 1</dc:title>
</cp:coreProperties>
</file>